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747E-8D76-4761-A737-FE6B80AD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169B-4278-4EA8-B946-F3EABBFD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0B10-9593-464E-B188-ADDB8E58D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D1A8-78B8-48C8-9EE6-1F98FA528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ADC4-7CEC-4927-9785-E5096E112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BA10-C92F-4971-9D95-6AE82037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69EF-E98A-4D00-8060-88A9A5E7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F7B6-BD62-4E30-95CF-910847D4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EDE7-FCF4-4906-BFC0-084DDF63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D884-00CC-4132-8AAF-E407CAB2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A4ED-058A-405C-A3BB-4FF7BB00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1D18-75C9-4438-9317-D1C40488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DBA0-6166-4346-A4EB-0FA6F4F9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D3E2-AA29-46DD-8636-9B6041A0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169B-F7B7-41C9-96D9-E8E1CF3F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9301-7071-40E7-8DA9-58BEEBACC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4C11-AAD1-40D6-BCBF-ABD4BF9D9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01ED-4ABD-493A-9D2A-D0CEA51E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2DDC-8666-4853-BF5B-97C3210F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F65E-932F-4BA4-80B0-D86CF022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6857-C3E3-43D9-89D2-DBD0802A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12C3-2F6C-4EDA-9D0D-76A32337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5AAD-8CE4-4CC0-BD91-2058CD97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F7D0-CFD8-4086-9094-46BE1800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B940A8-5BFD-44C0-9040-8BA481B6F244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E7046A-1D6D-440B-AF53-70879C83F87F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WNYRIC Standards Wireless Design Considerations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Mat Dziuba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November 14, 2012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Overview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troduc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Wireless network design has many factor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WNYRIC created a planning document aid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Gartner Research paper WLAN RFP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Supplemented by WNYRIC staff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ocument inten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To aide a proper wireless network design,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To elicit district input to design decisions,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To document the decisions the district chose,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To provide a default in absence of district input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The End-User Experienc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User counts and type determination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Who are the wireless users? What are the uses/applications?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Plan for 2 devices per 1 user ratio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Per-User Capacity Planning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What are the current and potential usage?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Plan for 802.11n as 802.11g is limited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Coverage Areas and Density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How many users/devices at what locations? Diagrams?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Plan 1 AP per classroom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Perform a post installation wireless site survey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lnSpc>
                <a:spcPct val="80000"/>
              </a:lnSpc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5959"/>
                </a:solidFill>
                <a:latin typeface="News Gothic MT"/>
              </a:rPr>
              <a:t>To audit and remediate installation</a:t>
            </a:r>
            <a:endParaRPr b="0" lang="en-US" sz="17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DO NOT use mobile AP’s such as AP on a mobile cart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nd-User Continued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efinition of Types of Client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What types of client devices?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802.11b/g, 802.11a, and/or 802.11n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2.4 Ghz and 5.0 Ghz?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Plan for iPad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weakest transmit power of most device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Migrate to 5.0 Ghz 802.11n and/or 802.11a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liminate 802.11b system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Minimize/eliminate 802.11g systems, and 2.4 Ghz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Update client drivers and software are regularly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nvironment &amp; Operating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Site Survey and Monitoring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What is the environmental noise?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Has a spectrum analysis been done?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Without a specific survey, design 1 AP per room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lnSpc>
                <a:spcPct val="80000"/>
              </a:lnSpc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5959"/>
                </a:solidFill>
                <a:latin typeface="News Gothic MT"/>
              </a:rPr>
              <a:t>Optionally, use Ekahau planning tool for design</a:t>
            </a:r>
            <a:endParaRPr b="0" lang="en-US" sz="17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Linking WLAN Components to Wired Infrastructure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Is there Gig wiring for proposed AP locations?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Are there enough switched based PoE ports?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Recommend dedicated 2 wiring drops to each AP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Assume the district has good power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High availability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Is redundancy in the controller required?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nvironment Continued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Maintenance and Repair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Same day or next business day replacement contract?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What is plan wireless equipment software updates?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Provide same day replacement on controllers, none for AP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Provide licensing of software updates on all component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Network Management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Who will manage wireless system?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What is rogue AP’s policy?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Migration Strategy for Existing Mixed Network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Are there legacy access points?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Replace all the existing AP’s and controller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Network Servic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Security and Authentication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Will the client devices support WPA2-AES?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lnSpc>
                <a:spcPct val="90000"/>
              </a:lnSpc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Are there clients that won’t?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What is district policy for BYOD and Guest access?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Use WPA2-AE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Advanced Network Protocol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Is support of VoIP wireless handsets needed?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Location-Based Service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Are location-based services required?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What proximity to asset is needed?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Include location services, with accuracy within 5 meter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eferenc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Zimmerman, T. King, M. (2009, November 11). Toolkit: Technology Section of a WLAN RFP. Gartner G00171433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ziuba, M. Holbrook, J. (2012, September 19). Discussion input from Sr. LAN/WAN meeting. Recorded at Erie 1 BOCES/WNYRIC on September 19, 2012 and October 3, 2012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19:21:52Z</dcterms:created>
  <dc:creator>Dziuba, Mathew</dc:creator>
  <dc:description/>
  <dc:language>en-US</dc:language>
  <cp:lastModifiedBy>Valerie Winegarden</cp:lastModifiedBy>
  <cp:lastPrinted>2012-11-13T19:40:45Z</cp:lastPrinted>
  <dcterms:modified xsi:type="dcterms:W3CDTF">2012-11-14T12:34:54Z</dcterms:modified>
  <cp:revision>6</cp:revision>
  <dc:subject/>
  <dc:title>Wireless Design Considerations For WNYRIC Standards</dc:title>
</cp:coreProperties>
</file>